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43D-4A9F-430A-8211-61C0E97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BDC-749F-4B78-8130-51B121D0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E8A-9E5D-4718-9AB4-D8BF3C2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3AD-FFD0-46D4-A9D4-E288D4D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83B-8FBC-4308-BC61-5F40B914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871-B9F0-4A9F-87C5-E62C2D3F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253-1296-4560-A50D-D86E88C1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4DA-7F2C-4BA9-A09E-8852283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302-EA0F-4262-BABA-E070D98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809-3C9C-432F-895E-ED07169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A1D-DCED-4FE9-ABDD-2971BCC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5A3-C90C-4EEA-B0CE-394CD904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685800" y="6324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F66-30B6-4033-8874-FE66864F147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2 functions for getting NMEA 0183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can get whole sentence or specific field data(UTC time, latitude…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GPS%20Application-2" descr=""/>
          <p:cNvPicPr/>
          <p:nvPr/>
        </p:nvPicPr>
        <p:blipFill>
          <a:blip r:embed="rId4"/>
          <a:stretch/>
        </p:blipFill>
        <p:spPr>
          <a:xfrm>
            <a:off x="6324480" y="1828800"/>
            <a:ext cx="2384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SM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unctions for SMS and dialing to remote host for data l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GSM_APP2" descr=""/>
          <p:cNvPicPr/>
          <p:nvPr/>
        </p:nvPicPr>
        <p:blipFill>
          <a:blip r:embed="rId3"/>
          <a:stretch/>
        </p:blipFill>
        <p:spPr>
          <a:xfrm>
            <a:off x="4724280" y="241776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GSM%20Application-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804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demo program for using GPS &amp; GSM with 7188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am demonstrate how to adjust the RTC of 7188XA with the GPS UTC argument and use 7-segment LED as simple HMI fun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5:46:01Z</dcterms:created>
  <dc:creator>Tony</dc:creator>
  <dc:description/>
  <dc:language>en-US</dc:language>
  <cp:lastModifiedBy>Tony</cp:lastModifiedBy>
  <dcterms:modified xsi:type="dcterms:W3CDTF">2003-02-11T01:59:55Z</dcterms:modified>
  <cp:revision>8</cp:revision>
  <dc:subject/>
  <dc:title>ICPDAS GPS &amp; GSM Solution for 7188XA</dc:title>
</cp:coreProperties>
</file>